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jpeg" ContentType="image/jpeg"/>
  <Override PartName="/ppt/media/image9.jpeg" ContentType="image/jpeg"/>
  <Override PartName="/ppt/media/image7.jpeg" ContentType="image/jpeg"/>
  <Override PartName="/ppt/media/image6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jpeg" ContentType="image/jpeg"/>
  <Override PartName="/ppt/media/image2.png" ContentType="image/png"/>
  <Override PartName="/ppt/media/image15.jpeg" ContentType="image/jpeg"/>
  <Override PartName="/ppt/media/image3.wmf" ContentType="image/x-wmf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FB066-872F-47D6-AA4E-3467147AC963}" type="slidenum">
              <a:rPr b="0" lang="de-C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http://www.lehrer-online.de/786159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http://www.lehrer-online.de/786159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http://www.lehrer-online.de/786159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BB31-F613-4C03-9FFB-B647F3787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F1B8-16FD-4B17-987B-2620C9F2E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A024-1079-4BC3-A042-024863565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7778-7CB4-460F-943D-7370B6782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D4E5-A9B8-4D00-A11C-53F19E6B1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2CF2-B354-4D0C-AE20-D3B4050AE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2058-2FA4-43F0-BDBE-E19DF0F06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57B2-6AAC-4EF3-95B4-6996470E5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6AD6-787D-4BCF-A554-DC82BB8F3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A56F-C0A3-445E-BE2E-B03066C6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ECD5-BB77-4780-8F73-ECD33122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F33D-77E9-4263-A760-CCA0043F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dc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C1212-6413-4EF6-BB3A-3E9F78CB0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dc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rbitalmodell im gymnasialen Chemieunterric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opsis der Unterrichtseinh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dc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. Orbitalmod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57200" y="1600200"/>
          <a:ext cx="8229600" cy="4591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utung der Wellenfunk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geru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45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. Born (192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rechnung der Aufenthaltswahrscheinlichkeit des Elektrons aus der Wellenfunk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bitalbegri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4" name="Picture 5" descr="MaxBorncrop"/>
          <p:cNvPicPr/>
          <p:nvPr/>
        </p:nvPicPr>
        <p:blipFill>
          <a:blip r:embed="rId1"/>
          <a:stretch/>
        </p:blipFill>
        <p:spPr>
          <a:xfrm>
            <a:off x="1763640" y="2276640"/>
            <a:ext cx="1497240" cy="2158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003640" y="2492280"/>
            <a:ext cx="3238560" cy="153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pscher ZK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dc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I. Perioden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600200"/>
          <a:ext cx="8229600" cy="4498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etzung der Orbitale mit Elektron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geru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34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fbauprinzi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ieprinzi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i-Prinzip (Spi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ndsche Rege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u 1:</a:t>
                      </a: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chalen, Unterschalen, Kreuzung der Unterschalen (3d/4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u 2:</a:t>
                      </a: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oppelbesetzung der Wolk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lständige Herleitung des Periodensystems einschliesslich der Nebengruppenelem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Versuch: „Geisterstunde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Kausale Erklärung (a prior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580000" y="2389320"/>
            <a:ext cx="2065320" cy="216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pscher ZK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dc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I. Perioden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486080" y="1484280"/>
            <a:ext cx="6172200" cy="444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pscher ZK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dc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. Vorgeschich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1600200"/>
          <a:ext cx="8229600" cy="45277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ri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geru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7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79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euversuch von</a:t>
                      </a:r>
                      <a:r>
                        <a:rPr b="0" lang="de-CH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. Rutherford (19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rn-Hüllen-Mod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Widerspruch zum Coulomb-Geset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42960" y="2347920"/>
            <a:ext cx="3749760" cy="2160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861080" y="2529000"/>
            <a:ext cx="3527280" cy="1798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pscher ZK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dc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. Vorgeschich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1600200"/>
          <a:ext cx="8229600" cy="45277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ri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geru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74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79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nisierungsenergi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alenmodell von N. Bohr (191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46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027080" y="2421000"/>
            <a:ext cx="2962440" cy="2160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257800" y="2349360"/>
            <a:ext cx="2698920" cy="215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pscher ZK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dc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. Vorgeschich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600200"/>
          <a:ext cx="8229600" cy="45561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ri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geru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60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79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ammenfarben, Linienspekt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alenmodell von N. Bohr (191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Versuche: Flamenfarben, Linienspekt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Beschreibende Erklärung (a posterior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257800" y="2349360"/>
            <a:ext cx="2698920" cy="2159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_change_the_color_of_candle_flame"/>
          <p:cNvPicPr/>
          <p:nvPr/>
        </p:nvPicPr>
        <p:blipFill>
          <a:blip r:embed="rId2"/>
          <a:stretch/>
        </p:blipFill>
        <p:spPr>
          <a:xfrm>
            <a:off x="1042920" y="2349360"/>
            <a:ext cx="2684520" cy="215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pscher ZK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dc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. Vorgeschich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1600200"/>
          <a:ext cx="8229600" cy="45277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urgeset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geru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74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79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chärfebeziehung von W. Heisenberg (192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s Bohrsche Atommodell widerspricht der Unschärfebeziehu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46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Was nun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1403280" y="2349360"/>
            <a:ext cx="2173320" cy="2160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heisenberg_klein"/>
          <p:cNvPicPr/>
          <p:nvPr/>
        </p:nvPicPr>
        <p:blipFill>
          <a:blip r:embed="rId2"/>
          <a:stretch/>
        </p:blipFill>
        <p:spPr>
          <a:xfrm>
            <a:off x="5435640" y="2349360"/>
            <a:ext cx="2263680" cy="215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pscher ZK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dc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. Orbitalmod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484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rhersage/Experi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geru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7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llencharakter des Elektrons (192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llen/Teilchen-Dualism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Versuch: Beugung der Elektronenwell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chlüsselerkenntnis bei der Herleitung des Orbitalmode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8" name="Picture 5" descr="elektron_interferenz"/>
          <p:cNvPicPr/>
          <p:nvPr/>
        </p:nvPicPr>
        <p:blipFill>
          <a:blip r:embed="rId1"/>
          <a:stretch/>
        </p:blipFill>
        <p:spPr>
          <a:xfrm>
            <a:off x="1116000" y="2349360"/>
            <a:ext cx="2757600" cy="216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escher sky &amp; water I"/>
          <p:cNvPicPr/>
          <p:nvPr/>
        </p:nvPicPr>
        <p:blipFill>
          <a:blip r:embed="rId2"/>
          <a:stretch/>
        </p:blipFill>
        <p:spPr>
          <a:xfrm>
            <a:off x="5508720" y="2349360"/>
            <a:ext cx="2198520" cy="216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pscher ZK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dc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. Orbitalmod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57200" y="1600200"/>
          <a:ext cx="8229600" cy="46404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hematische Beschreibu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geru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74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79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rödingersche Wellengleichu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raussage aller atomaren Erscheinungen wird prinzipiell mögli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usserordentlich gute Übereinstimmung mit experimentellen Dat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2" name="Picture 5" descr="schroedinger-1000"/>
          <p:cNvPicPr/>
          <p:nvPr/>
        </p:nvPicPr>
        <p:blipFill>
          <a:blip r:embed="rId1"/>
          <a:stretch/>
        </p:blipFill>
        <p:spPr>
          <a:xfrm>
            <a:off x="1066680" y="2565360"/>
            <a:ext cx="2835360" cy="1440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spec-neon"/>
          <p:cNvPicPr/>
          <p:nvPr/>
        </p:nvPicPr>
        <p:blipFill>
          <a:blip r:embed="rId2"/>
          <a:stretch/>
        </p:blipFill>
        <p:spPr>
          <a:xfrm>
            <a:off x="5003640" y="2708280"/>
            <a:ext cx="3238560" cy="26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pscher ZK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dc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. Orbitalmod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57200" y="1600200"/>
          <a:ext cx="8229600" cy="44132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ktronen in Ato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og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45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79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ktronen in Atomen sind durch die Anziehung zum Kern eingesper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ngesperrte Wellen in der Musi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Versuche mit Gummi- und Kunststoffschläuc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ur bestimmte Zustände sind möglich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47720" y="2457360"/>
            <a:ext cx="3527280" cy="17985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rcRect l="0" t="0" r="30900" b="0"/>
          <a:stretch/>
        </p:blipFill>
        <p:spPr>
          <a:xfrm>
            <a:off x="5524560" y="2276640"/>
            <a:ext cx="2119320" cy="216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pscher ZK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dc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. Orbitalmod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57200" y="1600200"/>
          <a:ext cx="8229600" cy="4606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ktronen in Ato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geru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52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ktronen in Atomen können als dreidimensionale stehende Wellen beschrieben wer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s diskrete Verhalten der Elektronen in Atomen folgt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hne zusätzliche Annahme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us dem Wellencharakter des Elektr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Kausale Erklärung (a prior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476360" y="2276640"/>
            <a:ext cx="2138400" cy="2158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391000" y="2276640"/>
            <a:ext cx="2454480" cy="216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pscher ZK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07:51:22Z</dcterms:created>
  <dc:creator>Juraj</dc:creator>
  <dc:description/>
  <dc:language>en-US</dc:language>
  <cp:lastModifiedBy>Juraj</cp:lastModifiedBy>
  <dcterms:modified xsi:type="dcterms:W3CDTF">2012-10-08T11:39:44Z</dcterms:modified>
  <cp:revision>29</cp:revision>
  <dc:subject/>
  <dc:title>Orbitalmodell im gymnasialen Chemieunterricht</dc:title>
</cp:coreProperties>
</file>